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6F9-3DCD-480C-A617-299EF5F7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3BB-1FF1-4D56-9634-0196FC75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673-1BA9-4600-BE9E-C719B15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916-7CBF-4A7C-9B55-AC21180D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4EA-2B4D-4101-8156-D7D9BB9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789-9A53-418D-B951-122A1567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395-3606-4C86-8B4F-7CD2E2FD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507-29D8-4760-91B0-7D79BDE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6FA9-25FD-4DA7-A10A-64E63A9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B99-BC20-4779-BFB8-E2946A47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E45-DAFD-4BB3-ACB6-40D3ECC0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79B-0A96-41A1-BE53-EE4C3A5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5754-EBCA-4D5A-AE88-1D1501181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e-By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é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12 Bye-Bye.m4a" descr=""/>
          <p:cNvPicPr/>
          <p:nvPr/>
        </p:nvPicPr>
        <p:blipFill>
          <a:blip r:embed="rId1"/>
          <a:stretch/>
        </p:blipFill>
        <p:spPr>
          <a:xfrm>
            <a:off x="4419720" y="4800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09480" y="3808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833400" y="55627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09480" y="3808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i tu dois, pour toi, pour moi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833400" y="5562720"/>
            <a:ext cx="182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685800" y="45720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85800" y="4572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62120" y="48744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762120" y="48744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62120" y="48744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762120" y="48744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62120" y="48744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usquement, le sabre au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'aviserai en silence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sitôt vaill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de dénu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che de tant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09480" y="457200"/>
            <a:ext cx="98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85800" y="4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609480" y="457200"/>
            <a:ext cx="98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609480" y="457200"/>
            <a:ext cx="982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09480" y="457200"/>
            <a:ext cx="982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609480" y="457200"/>
            <a:ext cx="982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609480" y="457200"/>
            <a:ext cx="9829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609480" y="457200"/>
            <a:ext cx="9829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i tu dois, pour toi, pour moi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762120" y="42876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donc sur le cham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846000" y="5938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762120" y="42876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donc sur le cham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 tel est ton voeu (G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846000" y="5938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the w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685800" y="533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ns jargon ni gant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43120" y="594360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685800" y="533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ns jargon ni gant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s'il se peut (G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3120" y="594360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85800" y="4572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685800" y="4572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souci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à six sou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851400" y="5638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o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equivalent of pen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685800" y="4572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souci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à six sou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deux mots c'est si s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851400" y="563868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wo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equivalent of penn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60948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609480" y="4572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09480" y="4572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609480" y="45720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609480" y="45720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609480" y="457200"/>
            <a:ext cx="8001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ille, taille si tu doutes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s s'il te coûte (G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85800" y="4572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685800" y="4572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tes dou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849600" y="60199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nner la voix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457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ye bye, s'il te tarde (Go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Dieu te garde,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n aimée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tes dout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is s'il te coû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849600" y="601992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nner la voix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6094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609480" y="3808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609480" y="3808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ste au vent, le verbe cl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uriant j'irai, en priant haut.  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tement, plutôt vaillant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833400" y="5562720"/>
            <a:ext cx="16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ag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1:37:43Z</dcterms:created>
  <dc:creator>Angie</dc:creator>
  <dc:description/>
  <dc:language>en-US</dc:language>
  <cp:lastModifiedBy>Angie</cp:lastModifiedBy>
  <dcterms:modified xsi:type="dcterms:W3CDTF">2011-11-17T13:57:30Z</dcterms:modified>
  <cp:revision>8</cp:revision>
  <dc:subject/>
  <dc:title>Bye-Bye</dc:title>
</cp:coreProperties>
</file>